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CFA3E-6002-4931-BAD2-55B49AF7C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4C2A-0CEA-462A-A675-FD44F321D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98355-6CEE-477E-9322-65D1410BC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1A5A2-A372-4D2B-86E5-119F574A3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00645-D84E-4AA4-8BBC-2FAB4E24D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238B-C606-46CD-BDC6-33D17A33B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1D96-4D41-4018-8714-556F1467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645F7-C233-47D8-B125-A4DAB65A0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58152-1E46-4240-9E7D-48F510E5D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5AE0-85B8-4244-A0BB-67CBEE3A3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F5302-2FA7-48A1-941D-9733BC5BF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DFBC-04BB-4412-8E6B-68CF7AC2E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85B5-A8CD-45CA-8E10-008C1E946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Innovation and</a:t>
            </a:r>
            <a:br>
              <a:rPr sz="4400"/>
            </a:br>
            <a:r>
              <a:rPr b="0" lang="en-US" sz="4400" spc="-1" strike="noStrike">
                <a:solidFill>
                  <a:srgbClr val="000000"/>
                </a:solidFill>
                <a:latin typeface="Times New Roman"/>
              </a:rPr>
              <a:t>Cultural Transform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T 20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Gail Benic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Michael J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ical Determinism #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n Angell, New Barbarian Manifesto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brave new world is being forced upon unsuspecting societies by advances in information techn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advances happen automatically &amp; have a life of their ow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logic to technological advances which is outside our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haping Perspective</a:t>
            </a:r>
            <a:br>
              <a:rPr sz="4400"/>
            </a:br>
            <a:r>
              <a:rPr b="0" lang="en-US" sz="4400" spc="-1" strike="noStrike">
                <a:solidFill>
                  <a:srgbClr val="000000"/>
                </a:solidFill>
                <a:latin typeface="Times New Roman"/>
              </a:rPr>
              <a:t>(Lievrouw, 2002)</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es are continuously remade by what users do with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media technologies  both shape and are shaped by their social, economic and cultural contex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aping is “recombinant”= products of continuous hybridization of both existing technologies and innovations in interconnected technical and institutional framewo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binant/hybrid metaphor</a:t>
            </a:r>
            <a:br>
              <a:rPr sz="4400"/>
            </a:br>
            <a:r>
              <a:rPr b="0" lang="en-US" sz="4400" spc="-1" strike="noStrike">
                <a:solidFill>
                  <a:srgbClr val="000000"/>
                </a:solidFill>
                <a:latin typeface="Times New Roman"/>
              </a:rPr>
              <a:t>Lievrouw, 2002</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CTs are not determined by an independent, inevitable causality or evolutionary process unique to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rs, users, regulators take advantage of the current state of technological knowledge and recombine technologies and new knowledge to achieve their particular go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formation Society:</a:t>
            </a:r>
            <a:br>
              <a:rPr sz="4400"/>
            </a:br>
            <a:r>
              <a:rPr b="0" lang="en-US" sz="4400" spc="-1" strike="noStrike">
                <a:solidFill>
                  <a:srgbClr val="000000"/>
                </a:solidFill>
                <a:latin typeface="Times New Roman"/>
              </a:rPr>
              <a:t>Advocate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Masuda – Managing in the Information Society (1990)</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drives transformation from industrial to information society</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eadbeater – Living on Thin Air (1999)</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about role of knowledge/ human capital in Information Society; success=new ideas, constant innovation, enterprise</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ffler et al. The Information Society (1996) </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echnology creates dynamic competition &amp; challenges to old industries and technolog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formation Society:</a:t>
            </a:r>
            <a:br>
              <a:rPr sz="4400"/>
            </a:br>
            <a:r>
              <a:rPr b="0" lang="en-US" sz="4400" spc="-1" strike="noStrike">
                <a:solidFill>
                  <a:srgbClr val="000000"/>
                </a:solidFill>
                <a:latin typeface="Times New Roman"/>
              </a:rPr>
              <a:t>Critic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Winner – The Information Society (1996)</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cal changes not novel; false promises of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 Webster – Times of Technoculture (1999)</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er side – information gathering, documentation, &amp; surveillance = more administrative efficiency, control &amp; maintenance of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ach of ICTs: Ubiquitou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ther everyone has access to the technologies or not, the reach is ubiquito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sectors are dependent on ICT systems for record keeping, monitoring and transmitting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ing, education, law enforcement, military defence, health care, poli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ft in Meaning of Network: Then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raditional mass media technologies based on large scale production &amp; distribution of messages directed from a few media centres (major cities) out to ‘mass’ audie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ooth &amp; rapid diffusion of information from top of the hierarchy out to the periph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 or no capacity for messages to go the other way = no feedback loop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to Point Network: Now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now means interconnection in which many points or nodes (people, groups, machines, collections of information, organizations) may be created or abandoned on an as needed basis at any location in th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node can be either a sender or receiver of messages or bo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s = ties that are multiple, intersecting and sometimes redund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s </a:t>
            </a:r>
            <a:br>
              <a:rPr sz="4000"/>
            </a:br>
            <a:r>
              <a:rPr b="0" lang="en-US" sz="4000" spc="-1" strike="noStrike">
                <a:solidFill>
                  <a:srgbClr val="000000"/>
                </a:solidFill>
                <a:latin typeface="Times New Roman"/>
              </a:rPr>
              <a:t>Castells (1996)</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s an historical trend, dominant functions and processes are increasingly organized around networks. Networks constitute the new social morphology of our societies, and the diffusion of networking logic substantially modifies the operation and outcomes in processes of production, experience, power and cul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Characteristics (Barney, 2004)</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ce of digital technologies forming basic infrastructure of social, political &amp; economic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s basic form of human organization and relationshi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Question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new information and communication technologies (ICTs) revolutionary and transformat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mpacts or effects are they having on the social, political, economic and cultural spher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think about the nature of such technological developmen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echnological change automatic, natural and logical or can we shape technology as it shapes 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s #1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base of network society is informa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cy of the generation &amp; distribution of knowledge and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asis on continuous technological innovation and flexibility as source of economic grow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s #2</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conomy is organized glob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 commodities &amp; information not contained within national bounda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ons, cities, firms, individual workers are reconstituted as flexible, temporary networks of varying degrees of pow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 #3</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and space mediated by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imeless time” and “space of flows”  (Castells, 199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 #4</a:t>
            </a: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and powerlessness are a function of access to networks and control over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cts as gatekeep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networks and nodes are more powerful than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 #5</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sion between the abstract perception of being placeless and the concrete desire of people to be grounded in a particula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juncture between globalizing technology and local ident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movements emerge to re-establish the lo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n the New Media &amp;</a:t>
            </a:r>
            <a:br>
              <a:rPr sz="4400"/>
            </a:br>
            <a:r>
              <a:rPr b="0" lang="en-US" sz="4400" spc="-1" strike="noStrike">
                <a:solidFill>
                  <a:srgbClr val="000000"/>
                </a:solidFill>
                <a:latin typeface="Times New Roman"/>
              </a:rPr>
              <a:t>Civic Engagemen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dia are information and communication technologies &amp; their associated social contexts, incorporating</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s that enable and extend our abilities to communicate with particular focus on new interactive, multimedia communication systems &amp; convergence of advanced telecommunications, computer &amp; broadcasting network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activities or practices we use to develop those device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arrangements or organizations that form around the devices and pract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actical Media</a:t>
            </a: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the power to define re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do it yourself (DIY) media created from readily available, relatively cheap Internet technolog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lie can be halfway around the world before the truth has its boots on.”</a:t>
            </a:r>
            <a:endParaRPr b="0" lang="en-US" sz="3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ald Rumsfeld, Feb. 17, 2006</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cial Web: </a:t>
            </a:r>
            <a:br>
              <a:rPr sz="4400"/>
            </a:br>
            <a:r>
              <a:rPr b="0" lang="en-US" sz="4400" spc="-1" strike="noStrike">
                <a:solidFill>
                  <a:srgbClr val="000000"/>
                </a:solidFill>
                <a:latin typeface="Times New Roman"/>
              </a:rPr>
              <a:t>Redefining the Public Sphere? </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ways of constructing truth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gs, video blogs, YouTube, My Spac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ciability of new Web processes are producing new pathways for engagemen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obility – horizontal mass media flows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rred distinction between producer and user generated conten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cal democratization of knowledge; multiple sources and voi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e of counter publics?</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s and Counter Publics</a:t>
            </a:r>
            <a:br>
              <a:rPr sz="4400"/>
            </a:br>
            <a:r>
              <a:rPr b="0" lang="en-US" sz="3600" spc="-1" strike="noStrike">
                <a:solidFill>
                  <a:srgbClr val="000000"/>
                </a:solidFill>
                <a:latin typeface="Times New Roman"/>
              </a:rPr>
              <a:t>Michael Warner (2002)</a:t>
            </a:r>
            <a:endParaRPr b="0" lang="en-US" sz="36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blic: “a simple totality of people in a particular realm…. It might be the people organized as a nation, commonwealth, the city, the state, or some other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 public is the social space created by the reflexive circulation of discours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unter public  exists when  “a dominated group aspires to re-create itself as a [dominant] public and, in doing so, finds itself in conflict not only with the dominant social group, but also with the norms that constitute the dominant culture as a publi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ltural, anti-state, anti-marke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vic Engagement</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counter publics actively engage to   increasing their access to the physical (largely communication-related) and spacial resources that are necessary for their effectiveness in a global sphe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king about Technology: Technological Determinism #1</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 that technologies have an overwhelming and inevitable power to drive human interaction and social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the the effects or impacts of information and communication technologies (ICTs) on users, organizations, socie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ce is driver of technological innovation resulting in improvements in society &amp; progress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ical Determinism &amp;</a:t>
            </a:r>
            <a:br>
              <a:rPr sz="4400"/>
            </a:br>
            <a:r>
              <a:rPr b="0" lang="en-US" sz="4400" spc="-1" strike="noStrike">
                <a:solidFill>
                  <a:srgbClr val="000000"/>
                </a:solidFill>
                <a:latin typeface="Times New Roman"/>
              </a:rPr>
              <a:t>the Information Age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f that ICTs bring transformative shifts in socie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seen as independent causal fa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ical imperative combines with idea that people react to and accommodate technological change, but do not try to reverse or redirect i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18:29:05Z</dcterms:created>
  <dc:creator>myer siemiatycki</dc:creator>
  <dc:description/>
  <dc:language>en-US</dc:language>
  <cp:lastModifiedBy>Sheridan</cp:lastModifiedBy>
  <dcterms:modified xsi:type="dcterms:W3CDTF">2009-01-08T00:17:06Z</dcterms:modified>
  <cp:revision>44</cp:revision>
  <dc:subject/>
  <dc:title>CCT 205</dc:title>
</cp:coreProperties>
</file>